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1FC3-66DB-40F5-94B5-2C4968F3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1020-F995-4988-AE63-193F5720A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C1CF-AD2A-43E7-BE3D-69BD99EC68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9447-57CB-40FA-ACF4-FFC3B42B9D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0D6F-A0F2-4E52-ADE7-F8E187E3FC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DECB-9A0B-4145-B4DD-D22D28EFCD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CDD-46D1-446E-B1AC-F422E219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9F2-0A25-4B56-B5CA-6D2B8B27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AD77-F621-4C7B-84C3-6C7F1442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49D-A24C-4B6E-A412-41C59FE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CB19-1E93-47E1-9CC4-07F67004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5616-1798-4231-980D-614239DF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2A1D-0716-42BF-B7AA-3A9E64A5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69DC-4CF6-42BC-9E3B-ABEF04D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C99A-D086-4D67-8FD3-9B57FA1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ABB2-7864-4127-BC93-80CFE2CE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4378-03C9-447B-AE3B-0F6399F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BDD-35D4-4BD3-944A-D903DED4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4BC8-5AA2-4AD1-AEC8-0E0B15F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C27E-F706-41D3-88B1-AB7EB91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AC3E-725F-4DEE-8DAE-AFFFEBFD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153D-DE8B-4BD2-9ABC-228A2DA5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63FE-BA7F-4D80-8B4C-23ABD862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CEA-9DA4-43DB-A746-6AA380D4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51D-7CF2-4ACA-A6C8-5A9E8B8F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E8B-2016-4FF4-9EED-26BA5CAF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8BA-EB9F-4177-AFE7-2A0B4CA0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100A-303A-4C8B-8CDD-399A474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DC13-7036-4CAF-A406-2738147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E740-DBE2-4AFB-A78A-15B3253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AD8-EFBD-408C-BDFD-9D824E9C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E6E0-F9DD-4046-96E8-30ABA8AAB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AVING MONE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When you save money, is the interest usually LOW or HIG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3208320"/>
            <a:ext cx="2971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77840"/>
            <a:ext cx="9144000" cy="39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at is arguably the most important financial rule that we will talk about in personal finance?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45124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60" y="7617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Name one Savings Instrum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91320" cy="45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80" y="22824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How much money in Savings Accounts is guaranteed by the US Govern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4951440" cy="3809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4711680" y="404964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hhhhh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711680" y="3817800"/>
            <a:ext cx="1663560" cy="4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31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ll in the Blanks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In a CD, the longer the ________, the higher the ______rate that is paid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666880" y="3276720"/>
            <a:ext cx="3449880" cy="334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22T15:05:14Z</dcterms:modified>
  <cp:revision>145</cp:revision>
  <dc:subject/>
  <dc:title>D/O: TO EXPLAIN AND IDENTIFY PROBLEMS OF ECONOMICS</dc:title>
</cp:coreProperties>
</file>